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BB666-8C86-462B-9C23-347BAD7C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AEB4-2FA3-4DC6-87B8-953DAE69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D605E-0BF7-45C3-B71D-A4CC0FFB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3EC31-7FF6-44C3-B3AB-DDE79A91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1442-6505-493D-9CAC-AF10DDED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9CF1-B1DA-46F5-8B40-D46F945E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9E2F-5A8C-4CC7-BCD5-36BC9170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FD7E-B73B-4D85-A23B-E36C393E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AF78-6A9D-462B-9D89-7EEF1B65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E2C9-F342-41F4-9D6A-F73043EE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351F-4EBC-4FCE-B3F5-11547CF3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7CAF-3F83-4EFE-B7DC-54312C0D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B726-883E-4B24-AF19-9A22710A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4B11-6041-40E3-A2D1-7E2DB984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6BC0-41E2-4677-AA57-144174F5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0504-F0AB-4C60-B0B1-C737016C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3456-D125-410C-A30D-DD418D6F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1972D-FBA2-46B3-BB82-9896D297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0E9D2-A350-4087-B9EB-16E88052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0C7E9-915C-402B-B65C-D1646072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49C5F-2274-427E-86E2-31453974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713AC-025A-4E5D-B3DA-99FA3407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70F67-064D-450C-AF71-4E7FBE11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0BE2C-BD94-41A0-BF2C-E2D0F85E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B284-0B59-4801-AB8B-704720F8E69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B02F-A2DC-4C28-B2D1-AD4131E9326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86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57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Дали си ти обремен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ъв скръбта почти сломен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Бога всичко ти отда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рзай, не бой се, не роптай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830600"/>
            <a:ext cx="95774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Дерзай, бъди тих и не роптай!:] Дерзай, дерзай, дерзай и не ропт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175176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Ако трънлив е пътят т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нец трънлив Христос нос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ко е тежък твоят кръс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мни - Христос умря на кръс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1830600"/>
            <a:ext cx="95774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Дерзай, бъди тих и не роптай!:] Дерзай, дерзай, дерзай и не ропт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67960"/>
            <a:ext cx="957744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рви, търпи, оставай твърд, макар да те заплашва смърт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всичко вече иде кра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рзай, не бой се, не ропт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830600"/>
            <a:ext cx="95774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Дерзай, бъди тих и не роптай!:] Дерзай, дерзай, дерзай и не ропт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1767960"/>
            <a:ext cx="957744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дойде милият Исус съ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ва и голяма власт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газ ще вземе нас във ра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блажена радост, вечен май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252360" y="1830600"/>
            <a:ext cx="95774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Дерзай, бъди тих и не роптай!:] Дерзай, дерзай, дерзай и не ропт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9-26T14:54:30Z</dcterms:modified>
  <cp:revision>97</cp:revision>
  <dc:subject/>
  <dc:title>Slide 1</dc:title>
</cp:coreProperties>
</file>